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244-2627-4481-8A02-B893BF5C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5CA-391A-4D8C-909A-27765472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A96AC-A765-48F6-9BDE-3F5D49E0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5B083-3256-44A1-9CB4-F9FE1D25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0343E-FEA2-4D3D-9751-4515608A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6BC84-055E-4A23-B31E-AE7286F5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2662F-8F03-469C-B58E-16E900FB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D28A2-A466-409F-A02B-9D340CFE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82AF1-77C7-4E91-A814-7D7892C4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4FD26-63D3-4425-8328-9DA0209B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89D51-2AC8-4D05-B7CA-C13184E1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2BB76-2FBE-4BD7-B383-360142B1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CEA-DBAF-4AB7-9376-D90A775A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992A7-AA9A-4EE7-8A0F-41551C3C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024F9-4D6D-44C2-BCFB-5BD49480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5B16D-6CBC-405A-997F-FAD1BE25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8DEFC-4CAC-4D5A-A2E3-63084050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FC09C-F643-4106-82E2-E216C7F8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B0B26-0812-4ADA-AFB3-55CE3CA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D9B17-F916-4B43-9F37-C6D24EBD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D4F99-038D-41CD-9A07-DEB6B3F9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3D16C-A39F-47AA-B209-136B691F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2AE78-71F8-47DD-814A-CF32C06C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D41-4CC7-4FE9-8F5D-954AE1DD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17416-D895-47F8-ABEA-280A0787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F1A21-B8B9-4D09-9D8F-22FCBC40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9AA66-25D9-4E76-832B-EF378452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4339D-F9C7-4848-A609-BDF437B3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00B2D-1B86-402E-8CB2-84E02155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561FE-7DDD-41B7-8234-E5B9D881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0CF59-88F8-485B-95D1-C8BBE10F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405D7-AC54-4BD5-9667-6EB3903A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C7421-1F9E-4BE4-849B-0C10BE93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322E5-E46F-4F45-A67A-CC91C9F9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5011-E8F0-4E34-B596-4AE40C64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7131D-51F8-4E6B-BF2F-55323BC0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64606-1DDE-4CD2-9589-7ABEFD08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86E56-1045-4937-BAF9-7FC6341C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A672D-44E4-402D-BD44-C3C6855E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11E3D-5FDC-4A15-856C-21BC85AD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D5AEC-1AA8-405D-B881-7F63D735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8FDB7-A79B-4DED-B82A-E3240D03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AE51A-9FAF-448B-BA24-78E1DC3D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17ADE-4D0A-4D67-89AB-CB951D48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03EC7-9872-4B72-9CA7-EC8E7619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73A5-0CBC-4DC8-94C8-AFDA8128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3B208-C774-4FB3-BF51-FE9E5BB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2232D-07B7-4771-A162-72F22F29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A6C71-49C9-4949-858C-55118D4A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E4055-5FE7-47C7-BEEA-78682DCA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C56E6-E426-4A03-937D-EAAE7B26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4B2F7-FE01-4207-8BDD-0EB8EF83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46A0A-4A57-4060-9745-CB8891B8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27172-6D6D-41A0-8A23-F22E1E0C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FE2EE-904D-4BD4-9A36-E334EF95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FE2DE-24D5-48BA-8480-941A1F02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4734-DFE4-4A06-9881-3D2B16FE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00C1D-4C33-4862-883E-1BF0A28B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D9F2B-24D9-4132-862D-EDEB304D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4EDCF-A537-4288-84ED-CBBAB7E7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F3E2E-E319-4498-A8A3-F225D554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B3BB8-243E-4755-9CC2-C274359C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7CE05-6B1F-4D0C-8F6D-BF065EF6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45558-E455-47B9-9F90-B818695A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79095-1C2D-4A2A-941C-7B2040FC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08BC5-94F3-4A30-B666-8837B79B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DBB91-A808-4A26-83B2-9624AFD1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FE29-B622-4F69-A892-00D8971A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F5727-39C5-438A-9FB9-2A0639DB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F6196-D787-4B58-B37F-10EB6374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9FBD3-3D10-499D-AC18-E63CD45E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024DF-5FC9-4314-8BD5-D2925590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26B18-BD2C-4D9A-B4EC-2A04616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BD326-8743-452F-AA07-F269F18F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8AF58-09B6-44EE-A5A7-106F70EE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78F5F-EA9B-4A1B-95ED-7B7671AF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73F69-3AF8-4DF4-B36B-AAA8B960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16A3F-9797-4EA7-8E9A-FECB0669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D9FB-FE17-4EBD-A542-9CE23043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F4F09-4B7E-4D8F-AC63-6316148D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311B5-9EE6-4F4E-B1C6-3D3E59AC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6F31C-5F1C-491E-9DD5-1D2738F1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3EFB2-B5ED-4EBD-AAA5-8A8679D8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44EE7-6A5C-4DBF-BCA1-CCD3861F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3A74B-C249-41B0-ADE0-ADD696DC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72F80-CDCD-4E87-8117-177E704B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39E98-2393-4F6A-990B-54EC5E69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0D582-CF32-444B-A95A-964A32D6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870D1-2F37-4089-9938-1CD43DD4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25A8-A9EC-4570-8551-DDB981CB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E923A-C3ED-4CDE-ADEE-CE0D640F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80C954-09B3-4502-9020-5A16CE35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D4B84-03EE-4377-9249-657F52BA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9829D-BC9F-4DFF-B385-01632FCA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49D56-1755-4BE3-BC46-207429AF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0DB5A-2423-4034-876B-148C3848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AE994-C44F-4297-8AED-2C2D0AF1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E685C-0128-4D66-BE96-87A75CA8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B2029-C8B3-4B5F-A30B-A5A43C5F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EE193-0DB9-4D5C-9B23-3790DDD7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0710-6186-462A-A142-B6F60928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C0315-5CF2-4919-A767-E8D69AA7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0B051-6F05-49F3-965C-1A851024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27B482-F9CB-4662-9D93-B743CA4A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04D39-DFC8-4B0E-8580-F25C8AD7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A2A365-5DD8-46A3-A47D-BBEB94E5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DB94C-F816-48FA-B716-9163B227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2C828-57A4-4029-954D-8E0CBF44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2FFDC-1372-4D1D-92B7-CD67FA4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BE54A-1C18-4D9A-B4E2-6FA4B14F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0A9B4-AA71-49D0-86BB-CA3F420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390-9363-48B6-8771-78594CD4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0E6B-CBAC-4AC1-AFAF-264E533F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AA3B9-84A9-45D8-B4D1-592D073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D07DD-B268-40B9-81F0-8E97DF4A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D3F89-74F2-4F47-A5DA-0A36A62B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77797-FD5F-4D67-8DDC-096D7EC0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B9E77-475D-43A8-828D-A104FECB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B687E-60ED-4A6B-AA81-22EEA5A7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BA55DC-F5DE-4488-9597-3906E5F6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163C8-52F8-4D75-94E6-C712C98F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6CCE4-18C3-4E6F-AE31-3ECCAD1A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B283A-F80D-44D0-9615-08D59153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1EC7-6D9B-488F-8A11-2FDD705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871B9-4476-48CA-995C-71F41774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C9E20-30FE-4BF0-8A74-7343673C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E54F5-DD1C-4C5D-ACCE-C3B4A24C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FE4C1-A3BF-4886-B4DF-5B79FA75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D03C3-5A8D-42BD-84FE-51C88C4F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5DDCB-9FEA-4D0D-AFA1-548BDF8A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8324A-C0EE-45F8-9475-2E748643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640C75-9315-4B9E-B374-2C815FE4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DA4FE-601A-4001-B2DB-13C156D7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13DCB-FA92-454B-8CA8-1DF5C24E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2E5D-ACC5-45B7-9AC0-A0A4A7AC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99BAD-8ABA-44F6-8C60-830CF585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6457EE-6C9C-4F01-8EB8-96E9A4B5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551017-E7D7-4FAB-BB8B-94103600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E815E1-C0E8-422A-B9FF-0CB2EC1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3CF7F2-AFE9-4D76-903C-22A79AD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9BA01E-59E0-44B6-9169-69E52F66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CD39D-EC85-41E4-8CE0-2D419A13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50080-B4CC-4D5B-8793-6836CDC7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8651F-6D23-4FA6-8571-075E96AF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592AA-55F3-4994-A6FD-214EC325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7C38-027D-4A96-841C-9A01D969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FEDD39-0042-4FDC-A79F-6BF1D26E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B06DB-75A8-497E-B2FE-4B42C479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5325E-B370-4762-80FD-E155AB25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A2695F-5C8E-46E5-9F10-0765492F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3AC80-DB07-47EC-ADF6-4BB7177D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F69AD6-67B9-418A-9504-5712C95B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F9DF64-1EA4-487F-BF70-B2CFFC5B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5965C6-AE98-444B-9508-D74C851F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04E62-E12A-47C0-8995-027C65BA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A89128-D036-4264-BE01-45CED9AF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5EDF-05DD-45AD-9E0D-F392C7E3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040333-8076-43EB-8FB2-65C8E205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1D4A53-D741-405C-9F19-F7C9BB22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BEFA3E-CAAE-4FF1-BC46-093AB012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1D6456-D84E-4FCB-AC6A-2BB032F2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B7138-4616-4C39-9417-81F734F4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3D8A8D-F095-43E6-B355-B850D3BF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6F64D0-25EB-4EDB-A9CD-17D0C025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A2690A-7643-4D42-B0B1-A7B29245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647A45-355A-47F3-987A-0207A36E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384972-D528-45F0-8DCB-1B63549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D6E2-6E97-4932-B309-3EF1BFA2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40B78-900A-4BF9-91A8-1578F2F3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915D8A-A561-47A8-AB97-274E6A0E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EAF7AA-B8A1-4A5E-9699-02945074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A73C87-9D0B-435F-8892-6B5A1905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69300F-A317-450C-91A9-D000D39D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F65177-E5E2-49B4-BB51-D118611E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8F72D8-98B6-4003-8294-36699703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C4D6BB-5FA1-456A-B535-A8799A5E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95C935-F51D-465C-9E0F-E7DFC169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61BCA-B716-4AE7-BD58-CFB65234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4C83-89BA-440A-9402-84117FA5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03A9C-3CF2-4DA8-A240-7882AC3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A15FAA-0AB2-40D8-8168-E8CB061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063474-6DAC-4DFB-920D-0CF38E33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33606E-1AEB-458C-91DD-B6FEFCB0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5D60C3-FF6C-4E51-96F5-EEEB8386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588997-D094-4262-B1FD-57BCD35D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71E306-6EBB-4F5F-80CF-8F181848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201E9F-3692-42D6-A4D0-A4F976DB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80EAB1-0669-40D5-AB62-A98675AD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FE6322-3B57-4281-8429-C4EBFB7F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8162-0B3A-4829-A91C-BFBCABD2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D8D61D-9A63-40EB-8E10-5491D9E9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E4ED73-9E02-4D6E-B3F5-55DEC07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785570-B7F5-4D36-884A-03BBE98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D8143-C821-433C-8C29-63772E5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39AE25-10BD-4947-907F-3FF959D1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38551F-40CA-41DF-AD1D-05470380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623EC0-2DD4-4659-BE97-270CCC57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7A7F-AB05-4636-807B-B2182121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1A07-3B2B-487B-B8CF-0CD14C83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A69-A562-4551-806C-41D9A40F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14C5-3093-4625-9C0E-CBC98332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54D43-7F6F-4744-8A0B-6B533256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1BC6-939B-4BEF-92EE-8E63FB10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8E1E-0294-42B8-BDE6-02892A0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DFF7-40BD-44B5-A366-DB954080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E77C-0732-49EF-94B7-01780EA2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B6A1B-F4C8-42E2-B8E0-E3603CA4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4F3CA-9A0D-4E4C-B5CA-B2923547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064A4-B4E8-4E8E-8B0D-4050535C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59260-602F-48BB-9B1D-376EE004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A82-8D34-4C59-BB7B-CAF427AF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01BC5-3BF5-495D-B201-0F7B29BB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124B8-3331-4DF1-9213-BFD73269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BA32-E7C8-45D2-8B08-87696C90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D719-0F22-40AC-BD35-3558776E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310B0-A395-4CE0-84D9-F08F02B3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517CF-553D-48EC-9287-4D6EAA47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0DC36-9DC5-4721-BC2E-5F01EFE8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04C1-EA8C-4462-8801-FA73E5A1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39BD-9367-4849-B6D6-3F872255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2C32B-6181-4A5E-A633-7724ADAA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BBC-E2F2-4708-815E-D08F524D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C417-71E3-4377-982F-6BF233D5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204C0-1343-4561-8141-620EEAD0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6277-7525-4A71-B320-E36AE123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1DC1E-ABA6-4277-98DC-33C7661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D2BA-151E-4BC8-B8EF-7628A874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08908-2DCF-4AC0-8297-0C5A6714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6B038-C31E-4BCB-A2EA-70E5FB2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EFD9-1EEE-435A-AD3C-66889EA3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E789C-B500-4090-A880-72729689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3D9E-BA9F-4047-9124-D6011573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093-F9FC-47D8-9E3F-4AE7FB46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33C0D-B00F-41C2-977D-908B60F3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FB56B-3C72-4D19-A3B6-A8B7A78A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776ED-1544-482C-B5D6-7B69F1FC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49325-1529-490C-804B-15394708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8783-3E6E-4AEB-98F5-8524251B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9B42C-F23E-4A24-9591-0CC0897B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1D2D-E55A-421C-95A7-2D6F5369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D3227-235F-48AE-873E-7C0FA11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E2849-F658-4AC2-84B9-85D6A7E1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5AEF1-BF49-4DD5-973A-7452C513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4FC-F229-4BF7-8AAB-3205F71B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4FCEE-144F-4BF6-92DB-D2A08F74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5AEA-C83A-416A-A20C-0055039A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22C69-88FF-4327-A7C1-559AA365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AF19D-9E25-4B8E-8FF4-3D5787E2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47472-EF9F-4C35-BE99-13822922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4838-0651-4838-BF77-4915AAEB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B496-B3B5-4443-AAC2-0E61E16C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6372-357A-4126-9E63-50DCDB2F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192FC-BA76-47D0-97EF-23F4E7B8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6308-79EA-4B7D-AE17-D037243B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AD8-3757-4D11-8AAA-990B560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FB1F2-3734-46C4-A072-97BE58D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A83C8-9DDE-485A-9245-38D6AAD6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7D4C4-CC1B-4AD7-8E14-61668936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E92C0-FA12-48B4-98D3-16E47B95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33800-588E-49BA-BAEB-5F34966F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A4DD3-E608-4BB3-AF5D-2CAC7599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64AA3-DF50-4396-A4A1-C5A0897F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AA079-19F5-4D3E-8D7A-CBE80BE8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937D4-38B0-4364-8C82-08C05EEA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01526-E86E-463F-BA45-9CC4FC18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49A-8924-44DE-9154-7C16007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FE4AB-6180-4D4A-B869-4942B0F8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1B6ED-377D-4ED4-8F9E-58FB9ABA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66664-5A73-4238-A8AD-3E020E19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6B641-D48B-4621-8152-0EAE997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B0DF6-E512-4428-98EA-4195C05F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4F03F-F335-4E50-B409-AC89CECE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9A22E-F624-4719-B6D8-FC8AB034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6D341-6C25-45A6-B8EA-350501B2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249F1-9E6E-4E96-BF77-38532662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8618B-D202-476C-A307-4AEF7740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CB6C-9DB6-4A09-B964-6986BBDD57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D64A-CA43-4B85-9F76-4361B2E33A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DD8B-912F-4887-9170-6188145A47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657A-FB27-4566-8995-7C0837D751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3954-C022-429E-AF28-24C9431316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18E0-33BA-4316-B37A-2F66C400F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0B76-CE1F-47F3-917E-9739E4876A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E9CF-1B80-4E5F-A514-E0680F714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122A-4822-4F00-98AF-C07168A13B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DE08-A849-4B2E-B50D-D6028ABD2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AB54-6C02-4471-9172-4A324B5DBF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26F6-E5B6-446C-8F9A-49AF0B0CE6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1856-5F32-4108-9A7B-8D3C18FF1E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217F-4057-4BA1-82C3-5B360CE884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A91C-2000-442B-B25A-F55C79DF05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B99F-4D71-4F61-9507-9E49EB0C9C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A6C8-6A2E-4849-8E1F-A57B5676C9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2BD8-9289-4C57-8D03-F4B9C04CB0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CCFD-AB28-4E71-84E8-E1B14A709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1ED4-3F95-41E2-8573-DA0E101D29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555-5066-4375-8C2B-E6C62AAD7A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C150-3F9E-470D-9A9C-5372B98DBF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5EE5-A2C3-4DE5-A44D-CC44AFB41A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BECE-4C8D-409A-8FB1-5BBA637D1F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CFC8-5F89-431B-A45A-80D2BD202C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2801-88C7-41C2-8A50-98530E31B4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3385-96BE-40AF-9EA8-69FFD17FF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4A9D-62DE-43F5-90BB-22DE2FEE2C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A9A0-C4BD-4118-8884-946616007F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6DB8-7ECB-4032-9979-47727F6D5E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11A-0AF1-4511-91E2-0AD6959E79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41AF-558F-4F36-9E34-D0F341FB6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6615-7C13-4349-B162-67D7B7998D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54B2-5661-4B16-8EFF-2B0D671AD9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5A82-88E7-4DA4-AAE1-846551AFA2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D2F-F2C4-4BA2-A5A1-B0D26F5A9E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CAE0-3935-4A90-A714-07BA690CF8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26D4-2531-44C5-9F6E-D34AC7D562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F962-1BEA-4EE9-BB34-C265B1B7C0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A4BB-C24D-447C-B5A1-512751F1E7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1A1D-37B8-4088-8F1B-2AE42C58A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3CFA-C3D4-4A3A-BA0D-A48B57AA1D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23840" y="2982960"/>
            <a:ext cx="8896320" cy="253368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1762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图片 1" descr=""/>
          <p:cNvPicPr/>
          <p:nvPr/>
        </p:nvPicPr>
        <p:blipFill>
          <a:blip r:embed="rId1"/>
          <a:stretch/>
        </p:blipFill>
        <p:spPr>
          <a:xfrm>
            <a:off x="90360" y="1195560"/>
            <a:ext cx="8961480" cy="446688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图片 1" descr=""/>
          <p:cNvPicPr/>
          <p:nvPr/>
        </p:nvPicPr>
        <p:blipFill>
          <a:blip r:embed="rId1"/>
          <a:stretch/>
        </p:blipFill>
        <p:spPr>
          <a:xfrm>
            <a:off x="138240" y="768240"/>
            <a:ext cx="8866080" cy="557208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2"/>
          <a:stretch/>
        </p:blipFill>
        <p:spPr>
          <a:xfrm>
            <a:off x="395280" y="51865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3"/>
          <a:stretch/>
        </p:blipFill>
        <p:spPr>
          <a:xfrm>
            <a:off x="395280" y="5589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4"/>
          <a:stretch/>
        </p:blipFill>
        <p:spPr>
          <a:xfrm>
            <a:off x="395280" y="59500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图片 1" descr=""/>
          <p:cNvPicPr/>
          <p:nvPr/>
        </p:nvPicPr>
        <p:blipFill>
          <a:blip r:embed="rId1"/>
          <a:stretch/>
        </p:blipFill>
        <p:spPr>
          <a:xfrm>
            <a:off x="343080" y="2147760"/>
            <a:ext cx="8458200" cy="256248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2"/>
          <a:stretch/>
        </p:blipFill>
        <p:spPr>
          <a:xfrm>
            <a:off x="655560" y="21049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3"/>
          <a:stretch/>
        </p:blipFill>
        <p:spPr>
          <a:xfrm>
            <a:off x="611280" y="24782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4"/>
          <a:stretch/>
        </p:blipFill>
        <p:spPr>
          <a:xfrm>
            <a:off x="611280" y="28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5"/>
          <a:stretch/>
        </p:blipFill>
        <p:spPr>
          <a:xfrm>
            <a:off x="684360" y="3213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6"/>
          <a:stretch/>
        </p:blipFill>
        <p:spPr>
          <a:xfrm>
            <a:off x="611280" y="35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" descr=""/>
          <p:cNvPicPr/>
          <p:nvPr/>
        </p:nvPicPr>
        <p:blipFill>
          <a:blip r:embed="rId7"/>
          <a:stretch/>
        </p:blipFill>
        <p:spPr>
          <a:xfrm>
            <a:off x="611280" y="3933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" descr=""/>
          <p:cNvPicPr/>
          <p:nvPr/>
        </p:nvPicPr>
        <p:blipFill>
          <a:blip r:embed="rId8"/>
          <a:stretch/>
        </p:blipFill>
        <p:spPr>
          <a:xfrm>
            <a:off x="712800" y="4365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图片 1" descr=""/>
          <p:cNvPicPr/>
          <p:nvPr/>
        </p:nvPicPr>
        <p:blipFill>
          <a:blip r:embed="rId1"/>
          <a:stretch/>
        </p:blipFill>
        <p:spPr>
          <a:xfrm>
            <a:off x="349200" y="733320"/>
            <a:ext cx="8447040" cy="4999320"/>
          </a:xfrm>
          <a:prstGeom prst="rect">
            <a:avLst/>
          </a:prstGeom>
          <a:ln w="0">
            <a:noFill/>
          </a:ln>
        </p:spPr>
      </p:pic>
      <p:pic>
        <p:nvPicPr>
          <p:cNvPr id="1168" name="图片 2" descr=""/>
          <p:cNvPicPr/>
          <p:nvPr/>
        </p:nvPicPr>
        <p:blipFill>
          <a:blip r:embed="rId2"/>
          <a:stretch/>
        </p:blipFill>
        <p:spPr>
          <a:xfrm>
            <a:off x="1854360" y="5832360"/>
            <a:ext cx="4979880" cy="73368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3"/>
          <a:stretch/>
        </p:blipFill>
        <p:spPr>
          <a:xfrm>
            <a:off x="684360" y="5373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图片 1" descr=""/>
          <p:cNvPicPr/>
          <p:nvPr/>
        </p:nvPicPr>
        <p:blipFill>
          <a:blip r:embed="rId1"/>
          <a:stretch/>
        </p:blipFill>
        <p:spPr>
          <a:xfrm>
            <a:off x="171360" y="1004760"/>
            <a:ext cx="8801280" cy="484848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" descr=""/>
          <p:cNvPicPr/>
          <p:nvPr/>
        </p:nvPicPr>
        <p:blipFill>
          <a:blip r:embed="rId4"/>
          <a:stretch/>
        </p:blipFill>
        <p:spPr>
          <a:xfrm>
            <a:off x="539640" y="2852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图片 1" descr=""/>
          <p:cNvPicPr/>
          <p:nvPr/>
        </p:nvPicPr>
        <p:blipFill>
          <a:blip r:embed="rId1"/>
          <a:stretch/>
        </p:blipFill>
        <p:spPr>
          <a:xfrm>
            <a:off x="73080" y="819000"/>
            <a:ext cx="8999640" cy="52200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图片 1" descr=""/>
          <p:cNvPicPr/>
          <p:nvPr/>
        </p:nvPicPr>
        <p:blipFill>
          <a:blip r:embed="rId1"/>
          <a:stretch/>
        </p:blipFill>
        <p:spPr>
          <a:xfrm>
            <a:off x="138240" y="838080"/>
            <a:ext cx="8866080" cy="571500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" descr=""/>
          <p:cNvPicPr/>
          <p:nvPr/>
        </p:nvPicPr>
        <p:blipFill>
          <a:blip r:embed="rId3"/>
          <a:stretch/>
        </p:blipFill>
        <p:spPr>
          <a:xfrm>
            <a:off x="395280" y="16286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1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图片 1" descr=""/>
          <p:cNvPicPr/>
          <p:nvPr/>
        </p:nvPicPr>
        <p:blipFill>
          <a:blip r:embed="rId1"/>
          <a:stretch/>
        </p:blipFill>
        <p:spPr>
          <a:xfrm>
            <a:off x="152280" y="660240"/>
            <a:ext cx="8839440" cy="2867040"/>
          </a:xfrm>
          <a:prstGeom prst="rect">
            <a:avLst/>
          </a:prstGeom>
          <a:ln w="0">
            <a:noFill/>
          </a:ln>
        </p:spPr>
      </p:pic>
      <p:pic>
        <p:nvPicPr>
          <p:cNvPr id="1183" name="图片 2" descr=""/>
          <p:cNvPicPr/>
          <p:nvPr/>
        </p:nvPicPr>
        <p:blipFill>
          <a:blip r:embed="rId2"/>
          <a:stretch/>
        </p:blipFill>
        <p:spPr>
          <a:xfrm>
            <a:off x="209520" y="3479760"/>
            <a:ext cx="8828280" cy="330516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" descr=""/>
          <p:cNvPicPr/>
          <p:nvPr/>
        </p:nvPicPr>
        <p:blipFill>
          <a:blip r:embed="rId3"/>
          <a:stretch/>
        </p:blipFill>
        <p:spPr>
          <a:xfrm>
            <a:off x="826920" y="6365880"/>
            <a:ext cx="60501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图片 1" descr=""/>
          <p:cNvPicPr/>
          <p:nvPr/>
        </p:nvPicPr>
        <p:blipFill>
          <a:blip r:embed="rId1"/>
          <a:stretch/>
        </p:blipFill>
        <p:spPr>
          <a:xfrm>
            <a:off x="162000" y="1785960"/>
            <a:ext cx="8820000" cy="328608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2"/>
          <a:stretch/>
        </p:blipFill>
        <p:spPr>
          <a:xfrm>
            <a:off x="684360" y="2219400"/>
            <a:ext cx="6840360" cy="3492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" descr=""/>
          <p:cNvPicPr/>
          <p:nvPr/>
        </p:nvPicPr>
        <p:blipFill>
          <a:blip r:embed="rId3"/>
          <a:stretch/>
        </p:blipFill>
        <p:spPr>
          <a:xfrm>
            <a:off x="611280" y="3025800"/>
            <a:ext cx="6840360" cy="349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4"/>
          <a:stretch/>
        </p:blipFill>
        <p:spPr>
          <a:xfrm>
            <a:off x="7380360" y="3429000"/>
            <a:ext cx="503280" cy="3492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" descr=""/>
          <p:cNvPicPr/>
          <p:nvPr/>
        </p:nvPicPr>
        <p:blipFill>
          <a:blip r:embed="rId5"/>
          <a:stretch/>
        </p:blipFill>
        <p:spPr>
          <a:xfrm>
            <a:off x="611280" y="4667400"/>
            <a:ext cx="68403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图片 1" descr=""/>
          <p:cNvPicPr/>
          <p:nvPr/>
        </p:nvPicPr>
        <p:blipFill>
          <a:blip r:embed="rId1"/>
          <a:stretch/>
        </p:blipFill>
        <p:spPr>
          <a:xfrm>
            <a:off x="57240" y="822240"/>
            <a:ext cx="9029520" cy="571500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" descr=""/>
          <p:cNvPicPr/>
          <p:nvPr/>
        </p:nvPicPr>
        <p:blipFill>
          <a:blip r:embed="rId2"/>
          <a:stretch/>
        </p:blipFill>
        <p:spPr>
          <a:xfrm>
            <a:off x="3132000" y="205740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3"/>
          <a:stretch/>
        </p:blipFill>
        <p:spPr>
          <a:xfrm>
            <a:off x="6659640" y="205740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4"/>
          <a:stretch/>
        </p:blipFill>
        <p:spPr>
          <a:xfrm>
            <a:off x="4500720" y="3270240"/>
            <a:ext cx="2879640" cy="3492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" descr=""/>
          <p:cNvPicPr/>
          <p:nvPr/>
        </p:nvPicPr>
        <p:blipFill>
          <a:blip r:embed="rId6"/>
          <a:stretch/>
        </p:blipFill>
        <p:spPr>
          <a:xfrm>
            <a:off x="5148360" y="409104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" descr=""/>
          <p:cNvPicPr/>
          <p:nvPr/>
        </p:nvPicPr>
        <p:blipFill>
          <a:blip r:embed="rId7"/>
          <a:stretch/>
        </p:blipFill>
        <p:spPr>
          <a:xfrm>
            <a:off x="1187280" y="489744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" descr=""/>
          <p:cNvPicPr/>
          <p:nvPr/>
        </p:nvPicPr>
        <p:blipFill>
          <a:blip r:embed="rId9"/>
          <a:stretch/>
        </p:blipFill>
        <p:spPr>
          <a:xfrm>
            <a:off x="1332000" y="6149880"/>
            <a:ext cx="863640" cy="34920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" descr=""/>
          <p:cNvPicPr/>
          <p:nvPr/>
        </p:nvPicPr>
        <p:blipFill>
          <a:blip r:embed="rId10"/>
          <a:stretch/>
        </p:blipFill>
        <p:spPr>
          <a:xfrm>
            <a:off x="7121520" y="6137280"/>
            <a:ext cx="863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610000" cy="56196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324000" y="1492200"/>
            <a:ext cx="8496000" cy="43909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11280" y="256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611280" y="364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611280" y="44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611280" y="5157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图片 1" descr=""/>
          <p:cNvPicPr/>
          <p:nvPr/>
        </p:nvPicPr>
        <p:blipFill>
          <a:blip r:embed="rId1"/>
          <a:stretch/>
        </p:blipFill>
        <p:spPr>
          <a:xfrm>
            <a:off x="162000" y="1276200"/>
            <a:ext cx="88200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图片 1" descr=""/>
          <p:cNvPicPr/>
          <p:nvPr/>
        </p:nvPicPr>
        <p:blipFill>
          <a:blip r:embed="rId1"/>
          <a:stretch/>
        </p:blipFill>
        <p:spPr>
          <a:xfrm>
            <a:off x="128520" y="762120"/>
            <a:ext cx="8790120" cy="2914560"/>
          </a:xfrm>
          <a:prstGeom prst="rect">
            <a:avLst/>
          </a:prstGeom>
          <a:ln w="0">
            <a:noFill/>
          </a:ln>
        </p:spPr>
      </p:pic>
      <p:pic>
        <p:nvPicPr>
          <p:cNvPr id="1202" name="图片 2" descr=""/>
          <p:cNvPicPr/>
          <p:nvPr/>
        </p:nvPicPr>
        <p:blipFill>
          <a:blip r:embed="rId2"/>
          <a:stretch/>
        </p:blipFill>
        <p:spPr>
          <a:xfrm>
            <a:off x="128520" y="3554280"/>
            <a:ext cx="6208920" cy="28083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" descr=""/>
          <p:cNvPicPr/>
          <p:nvPr/>
        </p:nvPicPr>
        <p:blipFill>
          <a:blip r:embed="rId3"/>
          <a:stretch/>
        </p:blipFill>
        <p:spPr>
          <a:xfrm>
            <a:off x="1258920" y="1557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tretch/>
        </p:blipFill>
        <p:spPr>
          <a:xfrm>
            <a:off x="1187280" y="23781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" descr=""/>
          <p:cNvPicPr/>
          <p:nvPr/>
        </p:nvPicPr>
        <p:blipFill>
          <a:blip r:embed="rId5"/>
          <a:stretch/>
        </p:blipFill>
        <p:spPr>
          <a:xfrm>
            <a:off x="1187280" y="35449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6"/>
          <a:stretch/>
        </p:blipFill>
        <p:spPr>
          <a:xfrm>
            <a:off x="1187280" y="4365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7"/>
          <a:stretch/>
        </p:blipFill>
        <p:spPr>
          <a:xfrm>
            <a:off x="1258920" y="51721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1" descr=""/>
          <p:cNvPicPr/>
          <p:nvPr/>
        </p:nvPicPr>
        <p:blipFill>
          <a:blip r:embed="rId1"/>
          <a:stretch/>
        </p:blipFill>
        <p:spPr>
          <a:xfrm>
            <a:off x="133200" y="844560"/>
            <a:ext cx="8877600" cy="530532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" descr=""/>
          <p:cNvPicPr/>
          <p:nvPr/>
        </p:nvPicPr>
        <p:blipFill>
          <a:blip r:embed="rId2"/>
          <a:stretch/>
        </p:blipFill>
        <p:spPr>
          <a:xfrm>
            <a:off x="7885080" y="1671480"/>
            <a:ext cx="1008000" cy="34956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" descr=""/>
          <p:cNvPicPr/>
          <p:nvPr/>
        </p:nvPicPr>
        <p:blipFill>
          <a:blip r:embed="rId3"/>
          <a:stretch/>
        </p:blipFill>
        <p:spPr>
          <a:xfrm>
            <a:off x="4572000" y="2075040"/>
            <a:ext cx="1008000" cy="34920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" descr=""/>
          <p:cNvPicPr/>
          <p:nvPr/>
        </p:nvPicPr>
        <p:blipFill>
          <a:blip r:embed="rId4"/>
          <a:stretch/>
        </p:blipFill>
        <p:spPr>
          <a:xfrm>
            <a:off x="1116000" y="2492280"/>
            <a:ext cx="1008000" cy="3492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" descr=""/>
          <p:cNvPicPr/>
          <p:nvPr/>
        </p:nvPicPr>
        <p:blipFill>
          <a:blip r:embed="rId5"/>
          <a:stretch/>
        </p:blipFill>
        <p:spPr>
          <a:xfrm>
            <a:off x="3822840" y="2881440"/>
            <a:ext cx="792000" cy="349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6"/>
          <a:stretch/>
        </p:blipFill>
        <p:spPr>
          <a:xfrm>
            <a:off x="6300720" y="289548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7"/>
          <a:stretch/>
        </p:blipFill>
        <p:spPr>
          <a:xfrm>
            <a:off x="1042920" y="4119480"/>
            <a:ext cx="1225440" cy="3492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" descr=""/>
          <p:cNvPicPr/>
          <p:nvPr/>
        </p:nvPicPr>
        <p:blipFill>
          <a:blip r:embed="rId8"/>
          <a:stretch/>
        </p:blipFill>
        <p:spPr>
          <a:xfrm>
            <a:off x="8170920" y="4105440"/>
            <a:ext cx="792000" cy="349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9"/>
          <a:stretch/>
        </p:blipFill>
        <p:spPr>
          <a:xfrm>
            <a:off x="250920" y="4551480"/>
            <a:ext cx="555480" cy="3492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10"/>
          <a:stretch/>
        </p:blipFill>
        <p:spPr>
          <a:xfrm>
            <a:off x="7020000" y="4537080"/>
            <a:ext cx="792000" cy="3492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11"/>
          <a:stretch/>
        </p:blipFill>
        <p:spPr>
          <a:xfrm>
            <a:off x="5003640" y="492768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12"/>
          <a:stretch/>
        </p:blipFill>
        <p:spPr>
          <a:xfrm>
            <a:off x="2843280" y="5345280"/>
            <a:ext cx="12970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图片 1" descr=""/>
          <p:cNvPicPr/>
          <p:nvPr/>
        </p:nvPicPr>
        <p:blipFill>
          <a:blip r:embed="rId1"/>
          <a:stretch/>
        </p:blipFill>
        <p:spPr>
          <a:xfrm>
            <a:off x="152280" y="795240"/>
            <a:ext cx="8839440" cy="58755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2"/>
          <a:stretch/>
        </p:blipFill>
        <p:spPr>
          <a:xfrm>
            <a:off x="179280" y="541656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" descr=""/>
          <p:cNvPicPr/>
          <p:nvPr/>
        </p:nvPicPr>
        <p:blipFill>
          <a:blip r:embed="rId3"/>
          <a:stretch/>
        </p:blipFill>
        <p:spPr>
          <a:xfrm>
            <a:off x="179280" y="583416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878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5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图片 1" descr=""/>
          <p:cNvPicPr/>
          <p:nvPr/>
        </p:nvPicPr>
        <p:blipFill>
          <a:blip r:embed="rId1"/>
          <a:stretch/>
        </p:blipFill>
        <p:spPr>
          <a:xfrm>
            <a:off x="138240" y="2124000"/>
            <a:ext cx="8866080" cy="261000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" descr=""/>
          <p:cNvPicPr/>
          <p:nvPr/>
        </p:nvPicPr>
        <p:blipFill>
          <a:blip r:embed="rId2"/>
          <a:stretch/>
        </p:blipFill>
        <p:spPr>
          <a:xfrm>
            <a:off x="108000" y="210348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" descr=""/>
          <p:cNvPicPr/>
          <p:nvPr/>
        </p:nvPicPr>
        <p:blipFill>
          <a:blip r:embed="rId3"/>
          <a:stretch/>
        </p:blipFill>
        <p:spPr>
          <a:xfrm>
            <a:off x="71280" y="250668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" descr=""/>
          <p:cNvPicPr/>
          <p:nvPr/>
        </p:nvPicPr>
        <p:blipFill>
          <a:blip r:embed="rId4"/>
          <a:stretch/>
        </p:blipFill>
        <p:spPr>
          <a:xfrm>
            <a:off x="136440" y="292248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1" descr=""/>
          <p:cNvPicPr/>
          <p:nvPr/>
        </p:nvPicPr>
        <p:blipFill>
          <a:blip r:embed="rId5"/>
          <a:stretch/>
        </p:blipFill>
        <p:spPr>
          <a:xfrm>
            <a:off x="100080" y="331308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1" descr=""/>
          <p:cNvPicPr/>
          <p:nvPr/>
        </p:nvPicPr>
        <p:blipFill>
          <a:blip r:embed="rId6"/>
          <a:stretch/>
        </p:blipFill>
        <p:spPr>
          <a:xfrm>
            <a:off x="93600" y="3728880"/>
            <a:ext cx="8964720" cy="34956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1" descr=""/>
          <p:cNvPicPr/>
          <p:nvPr/>
        </p:nvPicPr>
        <p:blipFill>
          <a:blip r:embed="rId7"/>
          <a:stretch/>
        </p:blipFill>
        <p:spPr>
          <a:xfrm>
            <a:off x="57240" y="4119480"/>
            <a:ext cx="89643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7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2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2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228600" y="777960"/>
            <a:ext cx="8686800" cy="58672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432000" cy="3495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539640" y="4508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468360" y="5589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133200" y="1771560"/>
            <a:ext cx="8877600" cy="33148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277920" y="1406520"/>
            <a:ext cx="7503840" cy="145728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2" descr=""/>
          <p:cNvPicPr/>
          <p:nvPr/>
        </p:nvPicPr>
        <p:blipFill>
          <a:blip r:embed="rId2"/>
          <a:stretch/>
        </p:blipFill>
        <p:spPr>
          <a:xfrm>
            <a:off x="414360" y="2986200"/>
            <a:ext cx="7780320" cy="22190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4"/>
          <a:stretch/>
        </p:blipFill>
        <p:spPr>
          <a:xfrm>
            <a:off x="611280" y="2997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5"/>
          <a:stretch/>
        </p:blipFill>
        <p:spPr>
          <a:xfrm>
            <a:off x="755640" y="407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347760" y="1380960"/>
            <a:ext cx="8447040" cy="40960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971640" y="471024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3851280" y="469584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6588000" y="4710240"/>
            <a:ext cx="187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971640" y="515772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3851280" y="5170320"/>
            <a:ext cx="24494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2" descr=""/>
          <p:cNvPicPr/>
          <p:nvPr/>
        </p:nvPicPr>
        <p:blipFill>
          <a:blip r:embed="rId1"/>
          <a:stretch/>
        </p:blipFill>
        <p:spPr>
          <a:xfrm>
            <a:off x="111240" y="811080"/>
            <a:ext cx="8923320" cy="57531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468360" y="28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4"/>
          <a:stretch/>
        </p:blipFill>
        <p:spPr>
          <a:xfrm>
            <a:off x="468360" y="429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5"/>
          <a:stretch/>
        </p:blipFill>
        <p:spPr>
          <a:xfrm>
            <a:off x="395280" y="5445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图片 1" descr=""/>
          <p:cNvPicPr/>
          <p:nvPr/>
        </p:nvPicPr>
        <p:blipFill>
          <a:blip r:embed="rId1"/>
          <a:stretch/>
        </p:blipFill>
        <p:spPr>
          <a:xfrm>
            <a:off x="100080" y="804960"/>
            <a:ext cx="8942400" cy="52480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6"/>
          <a:stretch/>
        </p:blipFill>
        <p:spPr>
          <a:xfrm>
            <a:off x="395280" y="458136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图片 1" descr=""/>
          <p:cNvPicPr/>
          <p:nvPr/>
        </p:nvPicPr>
        <p:blipFill>
          <a:blip r:embed="rId1"/>
          <a:stretch/>
        </p:blipFill>
        <p:spPr>
          <a:xfrm>
            <a:off x="88920" y="1147680"/>
            <a:ext cx="8771040" cy="2286000"/>
          </a:xfrm>
          <a:prstGeom prst="rect">
            <a:avLst/>
          </a:prstGeom>
          <a:ln w="0">
            <a:noFill/>
          </a:ln>
        </p:spPr>
      </p:pic>
      <p:pic>
        <p:nvPicPr>
          <p:cNvPr id="1147" name="图片 2" descr=""/>
          <p:cNvPicPr/>
          <p:nvPr/>
        </p:nvPicPr>
        <p:blipFill>
          <a:blip r:embed="rId2"/>
          <a:stretch/>
        </p:blipFill>
        <p:spPr>
          <a:xfrm>
            <a:off x="264960" y="3433680"/>
            <a:ext cx="8418600" cy="190512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3"/>
          <a:stretch/>
        </p:blipFill>
        <p:spPr>
          <a:xfrm>
            <a:off x="468360" y="1125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4"/>
          <a:stretch/>
        </p:blipFill>
        <p:spPr>
          <a:xfrm>
            <a:off x="395280" y="26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5"/>
          <a:stretch/>
        </p:blipFill>
        <p:spPr>
          <a:xfrm>
            <a:off x="468360" y="386064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50:2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